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5.wmf" ContentType="image/x-wmf"/>
  <Override PartName="/ppt/media/image22.jpeg" ContentType="image/jpeg"/>
  <Override PartName="/ppt/media/image39.png" ContentType="image/png"/>
  <Override PartName="/ppt/media/image27.png" ContentType="image/png"/>
  <Override PartName="/ppt/media/image12.wmf" ContentType="image/x-wmf"/>
  <Override PartName="/ppt/media/image4.png" ContentType="image/png"/>
  <Override PartName="/ppt/media/image34.png" ContentType="image/png"/>
  <Override PartName="/ppt/media/image38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6.wmf" ContentType="image/x-wmf"/>
  <Override PartName="/ppt/media/image11.png" ContentType="image/png"/>
  <Override PartName="/ppt/media/image9.jpeg" ContentType="image/jpeg"/>
  <Override PartName="/ppt/media/image35.wmf" ContentType="image/x-wmf"/>
  <Override PartName="/ppt/media/image5.wmf" ContentType="image/x-wmf"/>
  <Override PartName="/ppt/media/image1.jpeg" ContentType="image/jpeg"/>
  <Override PartName="/ppt/media/image10.png" ContentType="image/png"/>
  <Override PartName="/ppt/media/image8.jpeg" ContentType="image/jpeg"/>
  <Override PartName="/ppt/media/image3.jpeg" ContentType="image/jpeg"/>
  <Override PartName="/ppt/media/image30.png" ContentType="image/png"/>
  <Override PartName="/ppt/media/image23.jpeg" ContentType="image/jpeg"/>
  <Override PartName="/ppt/media/image16.png" ContentType="image/pn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359-4661-4D8F-A189-00D8EF43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A4DF-230D-4A3A-84B1-DA43D814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0080" y="4559040"/>
            <a:ext cx="58550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7D8-7EBE-4A4A-B673-43C95DACB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44FF-5262-409D-B95C-973B3C2B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B6A-74FD-4878-9C25-8C065687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F82-A4FD-4743-8CC9-FDF02ED8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071-857C-4695-BC37-B890F04A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B63-5879-4104-92B6-A258D70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3EA-5E15-4EEA-98A2-80070BA9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B3D-0CA1-47E2-B1E5-5ED18F37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4A2-3A0F-451A-8E4E-0CA4C42D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F0A1-AC6D-42C5-9EAF-C51789C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6A34-061D-4363-BA09-4B58504D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D650-C712-4DE3-9E55-B4BD95EE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6AA7-6003-4FD4-A579-B2D89F90A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5791320" y="64008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Uso Correcto de su Tarjeta de Créd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1C04-0903-4706-9EAC-595FBC7B07F3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harge It Right title slide with FDIC Money Smart logo and module logo of credit card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6"/>
          <p:cNvSpPr/>
          <p:nvPr/>
        </p:nvSpPr>
        <p:spPr>
          <a:xfrm>
            <a:off x="76320" y="838080"/>
            <a:ext cx="66294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Uso Correc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380880" y="1981080"/>
            <a:ext cx="6553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su Tarjeta de Cr</a:t>
            </a:r>
            <a:r>
              <a:rPr b="1" lang="es-E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édi</a:t>
            </a:r>
            <a:r>
              <a:rPr b="1" lang="en-US" sz="78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to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632448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eve y María necesitan otro auto. Tienen algo de dinero para pagar la entrada de un auto nuevo, pero aún necesitan tomar unos $10,000 prestados para comprarl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6858000" y="1295280"/>
            <a:ext cx="205740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Comprar un au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457200" y="3962520"/>
            <a:ext cx="8381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no devuelven o no pueden devolver el préstamo, ¿qué podría hacer el prestamista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121932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n una línea de crédito abierto c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límite de dinero preaproba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pago mínimo mens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0844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r ejemplo, $15 por un saldo de $6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on tarjetas de cobro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tiene que pagar el saldo completo cada m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Las tarjetas de d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están asociadas a una cuenta corrie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6" descr="Credit card"/>
          <p:cNvPicPr/>
          <p:nvPr/>
        </p:nvPicPr>
        <p:blipFill>
          <a:blip r:embed="rId1"/>
          <a:stretch/>
        </p:blipFill>
        <p:spPr>
          <a:xfrm>
            <a:off x="6781680" y="1676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una tarjeta de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tarjet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360" y="106668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valor resguard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crédito aseguradas y no asegur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oro y platin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de prem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rjetas pre aproba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ontent Placeholder 2"/>
          <p:cNvSpPr/>
          <p:nvPr/>
        </p:nvSpPr>
        <p:spPr>
          <a:xfrm>
            <a:off x="5029200" y="977760"/>
            <a:ext cx="3962520" cy="5181840"/>
          </a:xfrm>
          <a:prstGeom prst="rect">
            <a:avLst/>
          </a:prstGeom>
          <a:solidFill>
            <a:srgbClr val="252e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sej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Lea las divulgaciones antes de solicitar una tarje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vise los costos/pena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  <a:ea typeface="Arial"/>
              </a:rPr>
              <a:t>Entienda sus protecciones como consumi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Tome medidas para protegerse del fraude o del rob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90720"/>
            <a:ext cx="83818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tá requerido por ley feder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ben destacar las tasas, los costos y otros términos clav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jemplo de la sec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tasas de inter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鳠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 una divulgaci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320" y="384120"/>
            <a:ext cx="90676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Divulgación de Veracidad en los Préstamo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Sample truth in lending disclosure statement showing the APR for purchases, balance transfers, cash advances, and the Penalty APR and when it applies"/>
          <p:cNvPicPr/>
          <p:nvPr/>
        </p:nvPicPr>
        <p:blipFill>
          <a:blip r:embed="rId1"/>
          <a:stretch/>
        </p:blipFill>
        <p:spPr>
          <a:xfrm>
            <a:off x="762120" y="2590920"/>
            <a:ext cx="79153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06380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5560" indent="-29556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uando quiere elegir una tarjeta de crédito, compar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tasa porcentual anual (APR) par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Compr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Transferencias de sal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Adelantos de din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71280" indent="-194040">
              <a:lnSpc>
                <a:spcPct val="100000"/>
              </a:lnSpc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de penalidad y cuándo se ap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stos, como el costo anu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eriodo de gracia, si exis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lnSpc>
                <a:spcPct val="100000"/>
              </a:lnSpc>
              <a:spcBef>
                <a:spcPts val="700"/>
              </a:spcBef>
              <a:spcAft>
                <a:spcPts val="10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étodo de computar sal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érminos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Weight with a percentage symbol"/>
          <p:cNvPicPr/>
          <p:nvPr/>
        </p:nvPicPr>
        <p:blipFill>
          <a:blip r:embed="rId1"/>
          <a:stretch/>
        </p:blipFill>
        <p:spPr>
          <a:xfrm>
            <a:off x="6929280" y="2209680"/>
            <a:ext cx="17575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asa porcentual anual (APR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APR:</a:t>
            </a:r>
            <a:r>
              <a:rPr b="1" lang="es-E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 a lo largo de un año (interés + costo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usque una APR ba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costos anuales y otros car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cuánto durarán las tasas iniciales y si la nueva tasa será fija o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redit card icon with percentage symbol"/>
          <p:cNvPicPr/>
          <p:nvPr/>
        </p:nvPicPr>
        <p:blipFill>
          <a:blip r:embed="rId1"/>
          <a:stretch/>
        </p:blipFill>
        <p:spPr>
          <a:xfrm>
            <a:off x="3657600" y="42670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5345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saldos </a:t>
            </a:r>
            <a:r>
              <a:rPr b="1" lang="es-ES" sz="36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existentes</a:t>
            </a: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90440" y="1112760"/>
            <a:ext cx="8724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l dinero que debe por cargos ya realizados (saldo existente) por lo general no se puede aumentar a no ser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le informe del aumento cuando abre la cuneta y la tasa inicial dura al menos 6 m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ya un cambio en una tasa basada en el ?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cumple con un acuerdo de resolu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hace el pago mínimo requerido en el plazo de 60 días tras la fecha de vencimien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240" y="384120"/>
            <a:ext cx="89154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Aumento de APR en transacciones </a:t>
            </a:r>
            <a:r>
              <a:rPr b="1" lang="es-ES" sz="3300" spc="-1" strike="noStrike" u="sng">
                <a:solidFill>
                  <a:srgbClr val="c1961c"/>
                </a:solidFill>
                <a:uFillTx/>
                <a:latin typeface="Helvetica Neue"/>
                <a:ea typeface="Arial"/>
              </a:rPr>
              <a:t>nuevas</a:t>
            </a:r>
            <a:r>
              <a:rPr b="1" lang="es-ES" sz="33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a APR que se aplica a transacciones nuevas por lo general no puede aumentar en el plazo de un año después de emitir la tarjeta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6988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xcepto si tiene una tarjeta de tasa variable y el índice aumenta o la tasa de promoción expi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acreedor debe notificarle con 45 días de ante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puede cancelar la tarjeta antes de que entren en vigor los camb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PR de penaliz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a APR de finalizació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 un aumento permanente en la tasa de interés si no paga su tarjeta de crédito a tiemp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ser el doble de la APR norm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ás detalles en las divulgaciones de Veracidad en los Préstam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Three stacks of money that increase in height and an arrow indicating the increase"/>
          <p:cNvPicPr/>
          <p:nvPr/>
        </p:nvPicPr>
        <p:blipFill>
          <a:blip r:embed="rId1"/>
          <a:stretch/>
        </p:blipFill>
        <p:spPr>
          <a:xfrm>
            <a:off x="3429000" y="4343400"/>
            <a:ext cx="193500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rg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98712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an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argos por pago atrasa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gastar más del lími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transferencia de sal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s por adelanto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por aumentar el límite del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68360" indent="-285840">
              <a:lnSpc>
                <a:spcPct val="100000"/>
              </a:lnSpc>
              <a:spcBef>
                <a:spcPts val="649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osto transacciones en extranj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5" descr="Dollar sign"/>
          <p:cNvPicPr/>
          <p:nvPr/>
        </p:nvPicPr>
        <p:blipFill>
          <a:blip r:embed="rId1"/>
          <a:stretch/>
        </p:blipFill>
        <p:spPr>
          <a:xfrm>
            <a:off x="6400800" y="1447920"/>
            <a:ext cx="2201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8288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9536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vite los cargos de financiación al saldar su deuda por completo, o al hacer el pago mínimo, antes o en la fecha de vencimient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eriodo de graci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2" descr="Calendar"/>
          <p:cNvPicPr/>
          <p:nvPr/>
        </p:nvPicPr>
        <p:blipFill>
          <a:blip r:embed="rId1"/>
          <a:stretch/>
        </p:blipFill>
        <p:spPr>
          <a:xfrm>
            <a:off x="3200400" y="27432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Rounded Rectangle 9"/>
          <p:cNvGrpSpPr/>
          <p:nvPr/>
        </p:nvGrpSpPr>
        <p:grpSpPr>
          <a:xfrm>
            <a:off x="1335240" y="3846600"/>
            <a:ext cx="6619680" cy="1444680"/>
            <a:chOff x="1335240" y="3846600"/>
            <a:chExt cx="6619680" cy="1444680"/>
          </a:xfrm>
        </p:grpSpPr>
        <p:pic>
          <p:nvPicPr>
            <p:cNvPr id="152" name="Rounded Rectangle 9" descr=""/>
            <p:cNvPicPr/>
            <p:nvPr/>
          </p:nvPicPr>
          <p:blipFill>
            <a:blip r:embed="rId1"/>
            <a:stretch/>
          </p:blipFill>
          <p:spPr>
            <a:xfrm>
              <a:off x="1335240" y="3846600"/>
              <a:ext cx="6619680" cy="144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438200" y="3952800"/>
              <a:ext cx="641988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 txBox="1"/>
          <p:nvPr/>
        </p:nvSpPr>
        <p:spPr>
          <a:xfrm>
            <a:off x="380880" y="13716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saldo diario promedi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 el método más común us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aldo x APR x día en el ciclo de factur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ías en el año calend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200 x 0.10 x 30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46600" indent="-2466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elvetica Neue"/>
                <a:ea typeface="Arial"/>
              </a:rPr>
              <a:t>36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traight Connector 5"/>
          <p:cNvSpPr/>
          <p:nvPr/>
        </p:nvSpPr>
        <p:spPr>
          <a:xfrm>
            <a:off x="2286000" y="4572000"/>
            <a:ext cx="320040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5867280" y="43099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 $1.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7"/>
          <p:cNvSpPr/>
          <p:nvPr/>
        </p:nvSpPr>
        <p:spPr>
          <a:xfrm>
            <a:off x="1295280" y="3124080"/>
            <a:ext cx="6477120" cy="1800"/>
          </a:xfrm>
          <a:prstGeom prst="line">
            <a:avLst/>
          </a:prstGeom>
          <a:ln w="38160">
            <a:solidFill>
              <a:srgbClr val="132f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étodo de computación de sal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rvicio al clien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servicios por teléfono e Internet le pueden ayudar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ceder a la información de la cuenta, como el saldo y cargos rec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sus facturas on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ctualizar su información personal, como su dire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Customer service agent speaking into headset"/>
          <p:cNvPicPr/>
          <p:nvPr/>
        </p:nvPicPr>
        <p:blipFill>
          <a:blip r:embed="rId1"/>
          <a:stretch/>
        </p:blipFill>
        <p:spPr>
          <a:xfrm>
            <a:off x="3429000" y="4191120"/>
            <a:ext cx="242712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alizar otras funciones cla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987120"/>
            <a:ext cx="845820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órmese d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leyes que le protegen contra errores de facturación y cargos no autoriz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protecciones que ofrezcan las compañías de tarjetas de crédito (por ejemplo, un periodo de garantía extendido para ciertas compr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ómese un momento para entender bien los costos, las ventajas y la verdadera cobertura de los programas de "protección del crédito" o "suspensión de deuda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monto mímimo de crédito que le otorga la compañía de tarjeta de crédito basado en factores como s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Rectangle 3" descr=""/>
          <p:cNvPicPr/>
          <p:nvPr/>
        </p:nvPicPr>
        <p:blipFill>
          <a:blip r:embed="rId1"/>
          <a:stretch/>
        </p:blipFill>
        <p:spPr>
          <a:xfrm>
            <a:off x="811080" y="2266920"/>
            <a:ext cx="6967800" cy="1098720"/>
          </a:xfrm>
          <a:prstGeom prst="rect">
            <a:avLst/>
          </a:prstGeom>
          <a:ln w="0">
            <a:noFill/>
          </a:ln>
        </p:spPr>
      </p:pic>
      <p:pic>
        <p:nvPicPr>
          <p:cNvPr id="166" name="Rectangle 4" descr=""/>
          <p:cNvPicPr/>
          <p:nvPr/>
        </p:nvPicPr>
        <p:blipFill>
          <a:blip r:embed="rId2"/>
          <a:stretch/>
        </p:blipFill>
        <p:spPr>
          <a:xfrm>
            <a:off x="2030400" y="3103560"/>
            <a:ext cx="6643800" cy="1103400"/>
          </a:xfrm>
          <a:prstGeom prst="rect">
            <a:avLst/>
          </a:prstGeom>
          <a:ln w="0">
            <a:noFill/>
          </a:ln>
        </p:spPr>
      </p:pic>
      <p:pic>
        <p:nvPicPr>
          <p:cNvPr id="167" name="Rectangle 5" descr=""/>
          <p:cNvPicPr/>
          <p:nvPr/>
        </p:nvPicPr>
        <p:blipFill>
          <a:blip r:embed="rId3"/>
          <a:stretch/>
        </p:blipFill>
        <p:spPr>
          <a:xfrm>
            <a:off x="3170160" y="3943440"/>
            <a:ext cx="3333960" cy="1098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ímite de l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ónde solicitar una tarjeta de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2060"/>
                </a:solidFill>
                <a:latin typeface="Helvetica Neue"/>
                <a:ea typeface="Arial"/>
              </a:rPr>
              <a:t>¿Dónde cree que podría ir a solicitar una tarjeta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Ban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Establecimien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35252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Arial"/>
              </a:rPr>
              <a:t>Todo lo a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1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iene el derecho de optar por excluirse de recibir ofertas de tarjetas de crédito por corre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nº de teléfono en la oferta de crédi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ptar por no compartir información person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Cell phone"/>
          <p:cNvPicPr/>
          <p:nvPr/>
        </p:nvPicPr>
        <p:blipFill>
          <a:blip r:embed="rId1"/>
          <a:stretch/>
        </p:blipFill>
        <p:spPr>
          <a:xfrm>
            <a:off x="838080" y="4552920"/>
            <a:ext cx="20750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6840" y="9907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ndividual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sus propios activos, ingresos, su habilidad de pagar y su historial crediti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sted es responsable de pagar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2840" indent="-312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mancomunad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Basado en los activos, ingresos, la habilidad de pagar y el historial crediticio de las dos personas que lo solicita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Ambos solicitantes son responsables de la factura de la tarjeta de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30592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 individual vs mancomun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11430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Los consumidores </a:t>
            </a:r>
            <a:r>
              <a:rPr b="1" lang="es-ES" sz="3200" spc="-1" strike="noStrike" u="sng">
                <a:solidFill>
                  <a:srgbClr val="002060"/>
                </a:solidFill>
                <a:uFillTx/>
                <a:latin typeface="Helvetica Neue"/>
                <a:ea typeface="MS PGothic"/>
              </a:rPr>
              <a:t>menores de 21 años</a:t>
            </a:r>
            <a:r>
              <a:rPr b="1" lang="es-E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tener un aval, 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2060"/>
                </a:solidFill>
                <a:latin typeface="Helvetica Neue"/>
                <a:ea typeface="MS PGothic"/>
              </a:rPr>
              <a:t>Deben demostrar su habilidad de poder pag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Helvetica Neue"/>
                <a:ea typeface="MS PGothic"/>
              </a:rPr>
              <a:t>Si usted es un padre o una madre, estén preparados para ser ava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0560" indent="-3405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MS PGothic"/>
              </a:rPr>
              <a:t>Proporcionar información correcta en una solicitud de crédit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MS PGothic"/>
              </a:rPr>
              <a:t>Dar información falsa es un deli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quisitos para una solicitu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acidad:</a:t>
            </a:r>
            <a:r>
              <a:rPr b="1" lang="es-ES" sz="3000" spc="-1" strike="noStrike">
                <a:solidFill>
                  <a:srgbClr val="0070c0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s posibilidades presentes y futuras de cumplir con las obligaciones de pag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Capital: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valor de sus bienes y capital ne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Reputación: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cómo han pagado sus cuentas o deudas en el pas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b088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b08830"/>
                </a:solidFill>
                <a:latin typeface="Helvetica Neue"/>
                <a:ea typeface="Arial"/>
              </a:rPr>
              <a:t>Garantía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ropiedad o bienes ofrecidos para garantiza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os cuatro fact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6840" y="12193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finir el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licar por qué el crédito es importan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factores que tienen en cuenta los acreedores para tomar decisiones en materia de crédi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el propósito de las tarjetas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acidad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tiempo ha estado en su empleo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gana por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es son sus gastos mensuales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6" descr="Several people reviewing a set of house or building plans"/>
          <p:cNvPicPr/>
          <p:nvPr/>
        </p:nvPicPr>
        <p:blipFill>
          <a:blip r:embed="rId1"/>
          <a:stretch/>
        </p:blipFill>
        <p:spPr>
          <a:xfrm>
            <a:off x="2590920" y="3276720"/>
            <a:ext cx="3305160" cy="2195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pit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o dinero tiene en su cuenta corriente y cuenta de ahorr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Es propietario de una vivienda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inversiones u otros bienes (p. ej. un automóvil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Cash"/>
          <p:cNvPicPr/>
          <p:nvPr/>
        </p:nvPicPr>
        <p:blipFill>
          <a:blip r:embed="rId1"/>
          <a:stretch/>
        </p:blipFill>
        <p:spPr>
          <a:xfrm>
            <a:off x="5029200" y="3429000"/>
            <a:ext cx="304812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putac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8276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 ha tenido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uántas cuentas de crédito tien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Alguna vez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 declaró en bancarrot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uvo un juicio por deuda pendiente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piedad suya fue embargada o ejecuta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 hecho pagos atrasado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Man sitting in front of a pile of bills and final notices with his head in his hands "/>
          <p:cNvPicPr/>
          <p:nvPr/>
        </p:nvPicPr>
        <p:blipFill>
          <a:blip r:embed="rId1"/>
          <a:stretch/>
        </p:blipFill>
        <p:spPr>
          <a:xfrm>
            <a:off x="7391520" y="2743200"/>
            <a:ext cx="15206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Tiene bienes para garantizar el préstamo más allá de su capacidad de devolverlo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2" descr="Model house"/>
          <p:cNvPicPr/>
          <p:nvPr/>
        </p:nvPicPr>
        <p:blipFill>
          <a:blip r:embed="rId1"/>
          <a:stretch/>
        </p:blipFill>
        <p:spPr>
          <a:xfrm>
            <a:off x="2417760" y="2514600"/>
            <a:ext cx="387972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People in suits reviewing information"/>
          <p:cNvPicPr/>
          <p:nvPr/>
        </p:nvPicPr>
        <p:blipFill>
          <a:blip r:embed="rId1"/>
          <a:stretch/>
        </p:blipFill>
        <p:spPr>
          <a:xfrm>
            <a:off x="257040" y="1295280"/>
            <a:ext cx="8629920" cy="4191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3733560" y="1752480"/>
            <a:ext cx="4724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emos hablado sobre la información que buscan los acreedores a la hora de decidir si autorizarle una tarjeta de crédito, pero ¿dónde creen que encontrarán esta información</a:t>
            </a: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Qué buscan los acreedo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523880" y="4495680"/>
            <a:ext cx="601992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088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u informe crediticio le informa a los acreedores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Quiíen es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o  dinero de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i ha tenido algún cobro de cuentas en mora, bancarrotas, sentencias, etc. contra us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uántas consultas se han realizado de su informe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04920" y="1417680"/>
            <a:ext cx="624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 presentamos a Cath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Tiene 25 añ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unca ha tenido una tarjeta de crédito ni un préstam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No tiene historial crediticio excepto por una consulta que hizo su casero cuando alquiló su apartamento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2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decide un acreedor si Cathy es un buen riesgo creditici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" descr="C:\Documents and Settings\Karissa\Local Settings\Temporary Internet Files\Content.IE5\6ZO5JZWK\MPj04424310000[1].jpg"/>
          <p:cNvPicPr/>
          <p:nvPr/>
        </p:nvPicPr>
        <p:blipFill>
          <a:blip r:embed="rId1"/>
          <a:stretch/>
        </p:blipFill>
        <p:spPr>
          <a:xfrm>
            <a:off x="6629400" y="1828800"/>
            <a:ext cx="182880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aso crediticio: No tener historial no es un mister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Group 4" descr=""/>
          <p:cNvPicPr/>
          <p:nvPr/>
        </p:nvPicPr>
        <p:blipFill>
          <a:blip r:embed="rId1"/>
          <a:stretch/>
        </p:blipFill>
        <p:spPr>
          <a:xfrm>
            <a:off x="1474920" y="2451240"/>
            <a:ext cx="6205320" cy="168264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3" descr=""/>
          <p:cNvPicPr/>
          <p:nvPr/>
        </p:nvPicPr>
        <p:blipFill>
          <a:blip r:embed="rId2"/>
          <a:stretch/>
        </p:blipFill>
        <p:spPr>
          <a:xfrm>
            <a:off x="1457280" y="1079640"/>
            <a:ext cx="6205680" cy="168264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6" descr=""/>
          <p:cNvPicPr/>
          <p:nvPr/>
        </p:nvPicPr>
        <p:blipFill>
          <a:blip r:embed="rId3"/>
          <a:stretch/>
        </p:blipFill>
        <p:spPr>
          <a:xfrm>
            <a:off x="1457280" y="3786120"/>
            <a:ext cx="6205680" cy="16812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gencias de informes credit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www.annualcreditreport.c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ame al 877-322-82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scriba a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nual Credit Report Request Serv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P. O. Box 10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tlanta, GA 30348-528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forme Crediticio Anual Gratu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Right Arrow 5"/>
          <p:cNvGrpSpPr/>
          <p:nvPr/>
        </p:nvGrpSpPr>
        <p:grpSpPr>
          <a:xfrm>
            <a:off x="974880" y="4151160"/>
            <a:ext cx="6595920" cy="682920"/>
            <a:chOff x="974880" y="4151160"/>
            <a:chExt cx="6595920" cy="682920"/>
          </a:xfrm>
        </p:grpSpPr>
        <p:pic>
          <p:nvPicPr>
            <p:cNvPr id="208" name="Right Arrow 5" descr=""/>
            <p:cNvPicPr/>
            <p:nvPr/>
          </p:nvPicPr>
          <p:blipFill>
            <a:blip r:embed="rId1"/>
            <a:stretch/>
          </p:blipFill>
          <p:spPr>
            <a:xfrm>
              <a:off x="974880" y="4151160"/>
              <a:ext cx="659592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90720" y="4341960"/>
              <a:ext cx="64008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 txBox="1"/>
          <p:nvPr/>
        </p:nvSpPr>
        <p:spPr>
          <a:xfrm>
            <a:off x="457200" y="10666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s tip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ntaje FICO (Fair Isaac Sco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Rectangle 4" descr=""/>
          <p:cNvPicPr/>
          <p:nvPr/>
        </p:nvPicPr>
        <p:blipFill>
          <a:blip r:embed="rId2"/>
          <a:stretch/>
        </p:blipFill>
        <p:spPr>
          <a:xfrm>
            <a:off x="927000" y="3621240"/>
            <a:ext cx="7083360" cy="82836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6" descr=""/>
          <p:cNvPicPr/>
          <p:nvPr/>
        </p:nvPicPr>
        <p:blipFill>
          <a:blip r:embed="rId3"/>
          <a:stretch/>
        </p:blipFill>
        <p:spPr>
          <a:xfrm>
            <a:off x="1689120" y="4462560"/>
            <a:ext cx="6321240" cy="8287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untaje creditici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11426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i está preparado para solicitar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qué tarjeta de crédito es la más adecuada para us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ir cómo utilizar una tarjeta de crédito de manera respons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car los pasos a seguir si pierdo o me roban una tarjeta de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Credit cards"/>
          <p:cNvPicPr/>
          <p:nvPr/>
        </p:nvPicPr>
        <p:blipFill>
          <a:blip r:embed="rId1"/>
          <a:stretch/>
        </p:blipFill>
        <p:spPr>
          <a:xfrm>
            <a:off x="7880400" y="336600"/>
            <a:ext cx="118728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Si su solicitud para crédito es denega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1430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n aviso de denegación o aviso de acción adversa, indica los motivos por los que un crédito es denegad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ompañías de tarjetas de crédito deben darle los motivos por los que se le denegó un crédit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la agencia crediticia en el plazo de 60 días de recibir la denegación para recibir una copia gratuita de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0120" indent="-3301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Dispute cualquier información incorrecta en su informe creditici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  <a:ea typeface="Arial"/>
              </a:rPr>
              <a:t>Información en el resumen de la tarjeta de crédit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47640" y="1479600"/>
            <a:ext cx="826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ación de pag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03320" indent="-379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ww.federalreserve.gov/creditcardcalculator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sumen de asesoría crediti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viso de cambios de tasa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ansacciones o actividad de la cu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álculo de cargos de inter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4" descr="Statement and envelope"/>
          <p:cNvPicPr/>
          <p:nvPr/>
        </p:nvPicPr>
        <p:blipFill>
          <a:blip r:embed="rId1"/>
          <a:stretch/>
        </p:blipFill>
        <p:spPr>
          <a:xfrm>
            <a:off x="6880320" y="1066680"/>
            <a:ext cx="1778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52280" y="129528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uarde sus recibos de la tarjeta de crédito para compararlos con sus resúmene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vise su resumen mensual para detectar cualquier e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3240" indent="-60336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forme de errores lo antes po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4" descr="Collection of bills and receipts beside a calculator and desktop calendar"/>
          <p:cNvPicPr/>
          <p:nvPr/>
        </p:nvPicPr>
        <p:blipFill>
          <a:blip r:embed="rId1"/>
          <a:stretch/>
        </p:blipFill>
        <p:spPr>
          <a:xfrm>
            <a:off x="5867280" y="1219320"/>
            <a:ext cx="2610000" cy="3657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ga un buen registro de cuent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9800" y="990720"/>
            <a:ext cx="852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Cuál de los siguientes es un buen motivo para pagar más del mínimo que debe en su factura de su tarjeta de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Se reflejaría como algo positivo en su historial creditici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odría volver a gastarlo, en montos más eleva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 compañía de la tarjeta de crédito aumentaría su límite más rápidam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71280" indent="-54900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agaría el saldo con más rapidez y se ahorraría dinero en intere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609480" y="1143000"/>
          <a:ext cx="7925040" cy="3618000"/>
        </p:xfrm>
        <a:graphic>
          <a:graphicData uri="http://schemas.openxmlformats.org/drawingml/2006/table">
            <a:tbl>
              <a:tblPr/>
              <a:tblGrid>
                <a:gridCol w="1524240"/>
                <a:gridCol w="1197000"/>
                <a:gridCol w="1012680"/>
                <a:gridCol w="1295280"/>
                <a:gridCol w="1295640"/>
                <a:gridCol w="1600200"/>
              </a:tblGrid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rtícul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terés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6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91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a-d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1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29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bilia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sto d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neficios de pagar más que el pago mínim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80880" y="1600200"/>
          <a:ext cx="8458200" cy="3521160"/>
        </p:xfrm>
        <a:graphic>
          <a:graphicData uri="http://schemas.openxmlformats.org/drawingml/2006/table">
            <a:tbl>
              <a:tblPr/>
              <a:tblGrid>
                <a:gridCol w="1422360"/>
                <a:gridCol w="884520"/>
                <a:gridCol w="1655640"/>
                <a:gridCol w="1504800"/>
                <a:gridCol w="1489320"/>
                <a:gridCol w="1501560"/>
              </a:tblGrid>
              <a:tr h="1255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ldo orig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gos mensuale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años para amortiz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és pag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de pag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o mínimo (P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3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8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1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5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 + $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2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Houston, puede que tengamos un proble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Actividad 1 en la Guía para los Participant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si cada persona está usando su tarjeta de manera responsab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5360" indent="-493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criba lo que podría pasar si cada persona sigue usando su tarjeta de crédito como se describ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3720" indent="-3337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i pierde o le roban la tarjeta de crédi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0520" y="1599840"/>
            <a:ext cx="48769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 algn="ctr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¡Notifique a la compañía de la tarjeta de crédito inmediatamente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9" descr="Woman on her cell phone"/>
          <p:cNvPicPr/>
          <p:nvPr/>
        </p:nvPicPr>
        <p:blipFill>
          <a:blip r:embed="rId1"/>
          <a:stretch/>
        </p:blipFill>
        <p:spPr>
          <a:xfrm>
            <a:off x="5715000" y="1447920"/>
            <a:ext cx="2286000" cy="3124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7760" indent="-3333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82760" y="1142640"/>
            <a:ext cx="8432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as caracter?icas de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Otras tarjetas parecidas a las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os diferentes tipos de tarjetas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encontrar los mejores términ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solicitar una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una tarjeta de crédito de manera respons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3459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Cómo pagar la factura de su tarjeta de crédi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7760" indent="-34776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819160" y="990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as tarjetas de crédit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Qué es el crédito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2760" y="990720"/>
            <a:ext cx="850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le pregunta a un profesional financiero qué es el crédito, ¿cuál de estas respuestas elegiría?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257840" indent="-566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8276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Crédit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a habilidad de tomar dinero prestado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Préstamo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acuerdo de tomar dinero prestado a crédi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37320" indent="-337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Garantía o aval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</a:t>
            </a: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guridad, o bien, que promete al prestamista en caso de que no puedan devolver el présta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és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l costo de tomar dinero prestad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finir 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Credit card with a padlock attached to it"/>
          <p:cNvPicPr/>
          <p:nvPr/>
        </p:nvPicPr>
        <p:blipFill>
          <a:blip r:embed="rId1"/>
          <a:stretch/>
        </p:blipFill>
        <p:spPr>
          <a:xfrm>
            <a:off x="7315200" y="228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a importancia del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67280" indent="-467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¿Por qué creen que es importante el crédito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l crédi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ser útil en situaciones de emergen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Es más conveniente y seguro que llevar encima grandes cantidades de dine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Les permite hacer una compra grande, como la de un automóvil o una vivienda, y pagar por ella durante un largo tiemp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35200" indent="-46728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uede afectar su posibilidad de obtener un trabajo, comprar o alquilar una casa, u obtener un segur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67280" indent="-4672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9800" y="1219320"/>
            <a:ext cx="654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ener buen crédito significa qu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n a tiempo el dinero que deb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rá más fácil tomar dinero prestado en el futu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-33732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tienen problemas para usar el crédito de manera responsable, será más difícil para ustedes pedir dinero prestado en el futu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Credit card in a person's hand"/>
          <p:cNvPicPr/>
          <p:nvPr/>
        </p:nvPicPr>
        <p:blipFill>
          <a:blip r:embed="rId1"/>
          <a:stretch/>
        </p:blipFill>
        <p:spPr>
          <a:xfrm>
            <a:off x="7110360" y="1600200"/>
            <a:ext cx="17287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 buen crédi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</cp:lastModifiedBy>
  <dcterms:modified xsi:type="dcterms:W3CDTF">2011-02-14T18:05:31Z</dcterms:modified>
  <cp:revision>2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